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24C-06E8-4890-81CF-66AEA3BB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770-B3D3-4192-A402-A6CB57A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C49-2C0A-40BE-AE62-47CC908E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029-10A0-4E41-BF99-4E041C4A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8EC-A55C-4310-991C-91BBC2AE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337-24BC-4B62-8227-FF3CE8F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2FC-13C1-4B06-9380-422AF74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8D2-9AF6-404A-85B5-31B5D65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1BF-5E5C-4377-B9DE-F33D593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67B-B8BA-433C-B42A-FF05C4F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F75-A65A-4128-B303-BD5F1D9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E45-C68A-4CC4-A30E-17EF199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E03-3C1E-413A-8FA1-FC37DC53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5 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y zdroj st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u zvesť o spá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ju poznať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ykupiteľ k ná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y j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nás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y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vetl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com bezpeč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udúcnosť mrak čier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h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viery v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 nestra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i zdroj čis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javil nám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j lásky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ácnejšie nad všet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a zis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rozjasnil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06:31Z</dcterms:modified>
  <cp:revision>20</cp:revision>
  <dc:subject/>
  <dc:title>Je veľký náš Pán, on slávy je Kráľ Nech do všetkých strán  spev vrúcnych znie chvál.</dc:title>
</cp:coreProperties>
</file>